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9919-7F95-4B3C-B987-3CE37C7AB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7F13-B0D0-41F7-9595-98D72E8F5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6011-8969-4CF3-9D4B-B508937A9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0F4C-24C6-469E-94A2-9FB70F0DB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FF2C6-BB47-4DA3-9C13-40DBCE2A7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CD4FC-2498-44CE-A53D-31EDFD7AB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B3CDC-E089-41B3-B8AB-9135E052E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B4E3E-E586-401A-A0CD-13CB2B9C9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21A67-90CD-44D1-BFAB-2F6DB452B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18C84-D85E-4689-AD34-2D2834C7A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4C383-689F-413F-8EC5-661A023D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80E6-4331-4168-BC80-5D495A896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826FE-D6EA-4DD9-A3BF-90E3FE71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D1974-B969-44BB-AB45-F6BBA035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2BDC2-6426-4001-A846-21A85FF43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6ECD7-D607-41DB-800E-66DC820E5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37A0F-D9BF-4A2B-8AA4-96FFCAF36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D3DE-191B-4017-87C8-45D8B0E15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22A7-0FBA-4FB3-962D-379C6500A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ADF9-CFF4-4535-B2C1-9D8CA797B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1DB6-0A14-45CA-A900-8E594EA93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A19A-6B68-40F8-862D-825E9532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6219-3750-4431-8CC0-A9B243E3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39FA-502D-4613-9392-B760E6A9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C0346-3F23-4C7B-A21B-EA1DC690CB0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82679-E4FA-43B4-93AB-C63A7DB0A27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hyperlink" Target="http://ro.wikipedia.org/wiki/Atribut" TargetMode="External"/><Relationship Id="rId3" Type="http://schemas.openxmlformats.org/officeDocument/2006/relationships/hyperlink" Target="http://ro.wikipedia.org/wiki/Pronume" TargetMode="External"/><Relationship Id="rId4" Type="http://schemas.openxmlformats.org/officeDocument/2006/relationships/hyperlink" Target="http://ro.wikipedia.org/wiki/Caz" TargetMode="External"/><Relationship Id="rId5" Type="http://schemas.openxmlformats.org/officeDocument/2006/relationships/hyperlink" Target="http://ro.wikipedia.org/wiki/Nominativ" TargetMode="Externa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7920" y="1542960"/>
            <a:ext cx="7196400" cy="16560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Atributu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00200" y="36576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Atributul Pronomi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800600" y="62164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iectul acesta a fost realizat de Stoian Alina clasa a VI -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336840" y="1712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457200"/>
            <a:ext cx="2819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ribut pronomin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ste un </a:t>
            </a:r>
            <a:r>
              <a:rPr b="0" lang="en-US" sz="1800" spc="-1" strike="noStrike" u="sng">
                <a:solidFill>
                  <a:srgbClr val="e4005c"/>
                </a:solidFill>
                <a:uFillTx/>
                <a:latin typeface="Arial"/>
                <a:hlinkClick r:id="rId2"/>
              </a:rPr>
              <a:t>atrib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xprimat printr-un </a:t>
            </a:r>
            <a:r>
              <a:rPr b="0" lang="en-US" sz="1800" spc="-1" strike="noStrike" u="sng">
                <a:solidFill>
                  <a:srgbClr val="e4005c"/>
                </a:solidFill>
                <a:uFillTx/>
                <a:latin typeface="Arial"/>
                <a:hlinkClick r:id="rId3"/>
              </a:rPr>
              <a:t>pronu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ersonal, reflexiv, posesiv, demonstrativ, interogativ, relativ, nehotărât sau negativ. Pronumele poate fi în </a:t>
            </a:r>
            <a:r>
              <a:rPr b="0" lang="en-US" sz="1800" spc="-1" strike="noStrike" u="sng">
                <a:solidFill>
                  <a:srgbClr val="e4005c"/>
                </a:solidFill>
                <a:uFillTx/>
                <a:latin typeface="Arial"/>
                <a:hlinkClick r:id="rId4"/>
              </a:rPr>
              <a:t>cazuri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e4005c"/>
                </a:solidFill>
                <a:uFillTx/>
                <a:latin typeface="Arial"/>
                <a:hlinkClick r:id="rId5"/>
              </a:rPr>
              <a:t>nominati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poziţional), genitiv (genitival), dativ sau acuzativ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ributul pronominal se exprima pr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tributul pronominal genitiva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ărţile </a:t>
            </a:r>
            <a:r>
              <a:rPr b="1" lang="ro-RO" sz="3200" spc="-1" strike="noStrike" u="sng">
                <a:solidFill>
                  <a:srgbClr val="000000"/>
                </a:solidFill>
                <a:uFillTx/>
                <a:latin typeface="Arial"/>
              </a:rPr>
              <a:t>lor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 se află pe banc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tribut pronominal apoziţion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olegii, </a:t>
            </a:r>
            <a:r>
              <a:rPr b="1" lang="ro-RO" sz="3200" spc="-1" strike="noStrike" u="sng">
                <a:solidFill>
                  <a:srgbClr val="000000"/>
                </a:solidFill>
                <a:uFillTx/>
                <a:latin typeface="Arial"/>
              </a:rPr>
              <a:t>ei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, n-au fost de acord cu propunerea făcut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tribut pronominal în dativ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Păru-</a:t>
            </a:r>
            <a:r>
              <a:rPr b="0" lang="ro-RO" sz="32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atingea pământ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ate isi au rost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8T11:47:48Z</dcterms:created>
  <dc:creator>ddd</dc:creator>
  <dc:description/>
  <dc:language>en-US</dc:language>
  <cp:lastModifiedBy>ddd</cp:lastModifiedBy>
  <dcterms:modified xsi:type="dcterms:W3CDTF">2011-05-08T16:14:42Z</dcterms:modified>
  <cp:revision>6</cp:revision>
  <dc:subject/>
  <dc:title>Atributul</dc:title>
</cp:coreProperties>
</file>